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2E28-665B-475B-AFC8-7F9EE23F0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04DC-CA5C-4C5D-98DC-835DB725E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76B4F7-33DD-49E4-AD80-909BD867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4B28-CA2C-4FEF-A3B9-2ED2B1E3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1B3B82-6683-404F-9F2A-4319766E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2306-EB77-45BF-B1D0-1219839A7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CECF-5C85-4D1A-BED5-C92646D6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602B-E282-4D7E-84B8-E5692764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E37F-AB27-4F97-A38A-DB3473E0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59C8-A6EE-47A6-AC9D-6C630BCC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20AB-559D-4024-9713-8698F1B4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1CBA-1A24-4D86-A76A-D11684B1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E8A-CC52-4DAB-B7C2-CE57F7C7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708091-B01D-4145-88D8-50F7001A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B0EA-03CF-451A-822A-5771CA8EC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8D24-E5B5-4C8F-AD7B-8D620B704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0E55-5459-49A1-B5B2-392F540B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FD6921-6035-48D7-9BA9-4F491D0B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d.openlinksw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blog/hcls" TargetMode="External"/><Relationship Id="rId2" Type="http://schemas.openxmlformats.org/officeDocument/2006/relationships/hyperlink" Target="http://esw.w3.org/topic/HCLSI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cls.deri.org/hcls_demo.html" TargetMode="External"/><Relationship Id="rId2" Type="http://schemas.openxmlformats.org/officeDocument/2006/relationships/hyperlink" Target="http://hcls.deri.org/coi/demo/" TargetMode="External"/><Relationship Id="rId3" Type="http://schemas.openxmlformats.org/officeDocument/2006/relationships/hyperlink" Target="http://www.w3.org/2009/08/7tmdemo" TargetMode="External"/><Relationship Id="rId4" Type="http://schemas.openxmlformats.org/officeDocument/2006/relationships/hyperlink" Target="http://adaptivedisclosure.org/" TargetMode="External"/><Relationship Id="rId5" Type="http://schemas.openxmlformats.org/officeDocument/2006/relationships/hyperlink" Target="http://sourceforge.net/projects/swobjects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CLS Tutorial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W3C Health Care and Life Sciences Interes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erence Present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-IT World, WWW, ISMB, AMI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)Organized Worksho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-SHALS, SWASD, SWAT4LS 2009, IEEE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blic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edings of LOD Workshop at WWW 2009: Enabling Tailored Therapeutics with Linked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edings of the ICBO: Pharma Ontology: Creating a Patient-Centric Ontology for Translational Medic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A Spring Symposium: Clinical Observations Interoperability: A Semantic Web Approa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MC Bioinformatics. A Journey to Semantic Web Query Federation in Life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efings in Bioinformatics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 Life sciences on the Semantic Web: The Neurocommons and Bey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’ve come a long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iplestores have gone from millions to bill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ed Open Data 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lod.openlinksw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 demand Knowledge Bases: Amazon’s E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rminologies: SNOMED-CT, MeSH, UMLS, 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urocommons, Flyweb, Biogateway, Bio2RDF, Linked Lif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ed Names, NCBO’s BioPortal, Concept Web Alliance (C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S/CWA/SIB Uniprot project sta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netrance of ontology in bio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O Foundry - http://www.obofoundry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ioPortal - http://bioportal.bioontology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Centers for Biomedical Computing http://www.ncbcs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hared Names http://sharednames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pt Web Alliance http://conceptweblog.wordpress.com/conferenc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mantic Web Interest Group PRISM Forum http://www.prismforum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k packages in ELIXIR http://www.elixir-europe.org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ve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resent knowledge so that others can discover where a fact (or triple) came from and evaluating how to use it – link facts to data as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d 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CLS works together with the Provenance IG (Yolanda Gi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come up in work in BioRDF and SciDisc task fo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pt Web Alliance has adopted SWAN/SIOC as the starting point for modeling prov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d Ident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use common URI’s in order to link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enance rel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iers for people (research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ology servers (identifiers for ter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for comp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Names initi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miscon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a Semantic Web application does not necessarily require converting and storing all data in RD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e data where it liv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e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data accessible via RDF export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SPARQL end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468080"/>
            <a:ext cx="8077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to getting involve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tise - Early access to use cases and best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standar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effective exploration of new technology through collaboration and netwo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ak to any of us after the sess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 chairs and team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-hcls-chairs@w3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e in the next F2F (last one was her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esw.w3.org/topic/HCLSIG/Meetings/2009-11-30_F2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torial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tro to W3C HCLS I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M. Scott Mars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ealth Care Use C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- Vipul Kashy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harma Use C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- Elgar Pich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ientific Discourse Use Ca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Tim Cl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minology Consider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John Mad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ted Que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Kei Che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HC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M. Scott Marshall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co-chair HCLS IG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Leiden University Medical Center</a:t>
            </a:r>
            <a:br>
              <a:rPr sz="3000"/>
            </a:b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University of Amsterd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of the HCLS 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ginally chartered in 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rs: Eric Neumann and Tonya Hongserme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-chartered in 20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rs: Scott Marshall and Susie Step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 contact: Eric Prud’hommea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ad industry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100 memb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ing list of over 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www.w3.org/blog/hc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esw.w3.org/topic/HCLSI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ion of HCLS 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62036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ission of HCLS is to develop, advocate for, and support the use of Semantic Web technologies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logical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lational medi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omains stand to gain tremendous benefit by adoption of Semantic Web technologies, as they depend on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operability of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many domains and processes for efficient decision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lating across dom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ional medicine – use cases that cross do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across domains and research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are the link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 – transcription factor – prot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thway – molecular interaction – chemical com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ug – drug side effect – chemical comp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ut al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nk discourse to raw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 use c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id individuals in understanding the business and technical benefits of using Semantic Web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 guidelin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lerate the adoption of the techn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lection of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 c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s proof-of-concept demonst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vel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leve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ocabula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in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bout the group’s work at government, industry, and academic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the HCLS IG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teleconferences using teleconference bridge (Zakim), IRC,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2Face (F2F)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s for publishing W3C 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Task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20720"/>
            <a:ext cx="85345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ioRDF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federating (neuroscience) knowledge b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i Cheung (Yale Univer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inical Observations Interoperabilit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patient recruitment in t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pul Kashyap (Cigna Healthcar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inking Open Drug Dat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aggregation of Web-based drug dat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 Bizer (Free University Berl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lational Medicine Ontolog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high level patient-centric ont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ti Denney (Eli Lill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ientific Discours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building communities through netwo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 Clark (Harvard Univers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minolog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Semantic Web representation of existing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hn Madden (Duke Univer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monstration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hcls.deri.org/hcls_demo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monstrator of querying across heterogeneous EHR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hcls.deri.org/coi/demo/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http://www.w3.org/2009/08/7tmdem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http://ws.adaptivedisclosure.org/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CLS KB hosted at 2 institu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nked Open Data contribu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est Group No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CLS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ation of SWAN and SIOC ontologies for Scientific Discou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W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WAN-SI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ies: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hlinkClick r:id="rId5"/>
              </a:rPr>
              <a:t>http://sourceforge.net/projects/swobjects/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35:17Z</dcterms:created>
  <dc:creator>sstephens1</dc:creator>
  <dc:description/>
  <dc:language>en-US</dc:language>
  <cp:lastModifiedBy>scott</cp:lastModifiedBy>
  <dcterms:modified xsi:type="dcterms:W3CDTF">2010-02-24T19:58:48Z</dcterms:modified>
  <cp:revision>18</cp:revision>
  <dc:subject/>
  <dc:title>Slide 1</dc:title>
</cp:coreProperties>
</file>